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14283D-6ED0-4DCD-9BC1-969F9BCB64D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This lesson will take 1 – 2 hou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490A6A-82D3-40DB-86D0-0FE876329F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5E8125-03C0-48F5-ADC4-3D29DD696C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53D5B6-BC08-4A89-8CF3-E910A1589A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ould dictate the true-false sentences first, then learners could look at the slide to check. Then they discuss whether they are true or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F729C0-7A22-454F-A1EC-43757D4A4A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KEY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105C93-B50A-417A-8ACF-0A669FA57A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ould print out both texts and give one to each half of the class and do this as a jigsaw-reading – or all students could read both tex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FD8FEC-F4DC-4D2C-B481-2907C75711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1AE9-B398-4209-B14A-1A9BE1A25A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6AFF-2361-4BD4-BF09-73D79011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0362-3DAD-421E-AF37-73FE83B0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2001-B441-4E62-B589-0E1915C85B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A0C56-E14D-4649-98CA-A3D73E8A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D845F-7A55-42F4-B37E-9A7EEBAA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B00D-3D8A-4A4B-95DF-6A941085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33109-771F-46EC-9394-B86831CB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13FB-9F4B-4E14-A6C0-ED44FDA3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0A1DD-5AEB-4577-A91C-9D3861CD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EDFDE-E2D2-4BE7-A949-DC7F836B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9A4B8-914D-45C2-AE8A-A361DFFC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C274B2-9A6A-4E88-A907-FE3F5BD2A7E8}" type="slidenum">
              <a: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10/01/n456_infographic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Young_people_becoming_more_importan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0" spc="-1" strike="noStrike">
                <a:solidFill>
                  <a:srgbClr val="7030a0"/>
                </a:solidFill>
                <a:latin typeface="Calibri"/>
              </a:rPr>
              <a:t>Youth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149720"/>
            <a:ext cx="6400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22320"/>
            <a:ext cx="81154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ue or false?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125360"/>
            <a:ext cx="8785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ths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37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Now check the facts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76640"/>
            <a:ext cx="82296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newint.org/features/2012/10/01/n456_infographic.jp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89000"/>
            <a:ext cx="8229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429000"/>
            <a:ext cx="822960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llow-u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read the original articles – they will seem much eas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young-people-mcinty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selling-out-youth-laurie-penny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842080" y="4508640"/>
            <a:ext cx="31384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Mix</cp:lastModifiedBy>
  <dcterms:modified xsi:type="dcterms:W3CDTF">2012-10-28T16:58:13Z</dcterms:modified>
  <cp:revision>5</cp:revision>
  <dc:subject/>
  <dc:title>Youth</dc:title>
</cp:coreProperties>
</file>